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004-BD9B-4A75-B554-25C5EC7C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704-F5D0-4032-9422-76116972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DE7-7117-4534-89E1-119C150E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578-57D6-4657-943C-1CAAE496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5A9-C72B-45B4-A76C-95A90A2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859-28C7-44FB-8ACA-61A67145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79E-6937-47A2-8379-EA492C96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C57-CCCE-482F-ABC8-BFC2E5C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EC0-8CF3-4ACC-913D-AE7DBA6E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05F-332C-4FEF-B795-99FAC9D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E6E-2854-4275-9C2E-BF760C7B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E10-A0C5-43BD-95A7-5FD728D1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01F8-5010-4E59-9D41-4EB9541B0D1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7840" y="2819520"/>
            <a:ext cx="73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energetikai ültetvények szerepe a mezőgazdaság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ítésüknek, ösztönzésüknek szabály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41480" y="5638680"/>
            <a:ext cx="198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8. október 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4760" y="426708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ga Ta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24520" y="228600"/>
            <a:ext cx="8004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0080" y="762120"/>
            <a:ext cx="7284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járó hatóság: Mezőgazdasági Szakigazgatási Hiv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3760" y="1371600"/>
            <a:ext cx="9237600" cy="51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Eljárás mene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i kérelem bead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5 napon belül értesítés a kérelem befogadásáról v. hiánypótlás (30 n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ngedé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t követő 15 napon belül bejelentés a telepítés elvégzésérő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elyszíni ellenőrzés (engedélyben foglaltak), Hatósági nyilatkozat, nyilvántartá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nntartás ideje alatti Hatósági ellenőrzés (pl. változtatás, invazív terjeszkedé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lszámolást, helyreállítást követő bejelentés 15 napon belü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atóság helyszíni ellenőrzése (szakszerű megszüntetés), Hatósági nyilatkoz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érelem elemei (formanyomtatván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onosító adatok (név, lakhely, székhely, regisztrációs szám stb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ület azonosító adatai, csatolt dokumentumok (bérleti szerződés, tulj. nyilatkozat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lepítési terv: szaporítóanyag származása, alkalmazott technológia, élettartam, fe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molás/megszűntetés során szükséges intézkedések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1880" y="228600"/>
            <a:ext cx="74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vatkozási logika a bioenergia hasznosításá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1200" y="1295280"/>
            <a:ext cx="2224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gyasztó (pi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8680" y="2286000"/>
            <a:ext cx="220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a előállí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7840" y="3200400"/>
            <a:ext cx="2512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panyag termel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10600" y="1562040"/>
            <a:ext cx="1067040" cy="2286000"/>
          </a:xfrm>
          <a:prstGeom prst="downArrow">
            <a:avLst>
              <a:gd name="adj1" fmla="val 50000"/>
              <a:gd name="adj2" fmla="val 52369"/>
            </a:avLst>
          </a:prstGeom>
          <a:gradFill rotWithShape="0">
            <a:gsLst>
              <a:gs pos="0">
                <a:srgbClr val="008160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43760" y="78732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énz- 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övedelemáram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041560" y="1525680"/>
            <a:ext cx="990720" cy="2286000"/>
          </a:xfrm>
          <a:prstGeom prst="upArrow">
            <a:avLst>
              <a:gd name="adj1" fmla="val 50000"/>
              <a:gd name="adj2" fmla="val 57685"/>
            </a:avLst>
          </a:prstGeom>
          <a:gradFill rotWithShape="0">
            <a:gsLst>
              <a:gs pos="0">
                <a:srgbClr val="ffccff"/>
              </a:gs>
              <a:gs pos="100000">
                <a:srgbClr val="92759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360" y="80172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ag- 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iaáram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" y="4267080"/>
            <a:ext cx="80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zabályozással, támogatásokkal (beavatkozásokkal) kapcsolatos kritérium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9480" y="4800600"/>
            <a:ext cx="675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lleszkedjen a kitűzött célokho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ensúlyi megközelítés (5 kulcsterület egyensúly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öltségvetés és fogyasztók teherbíró képessé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Verseny semleges, EU konform legy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rrásallokációs hatékony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gyenletes jövedelemelosztás (szinergia, térség és vidékfejleszt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13716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3623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32767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6607440" y="23076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atkoz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96960" y="0"/>
            <a:ext cx="59598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oenergia elterjesztése ösztönzésé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vatkozási logiká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9000" y="1116000"/>
            <a:ext cx="375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 Piaci (értékesítési) o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1538280"/>
            <a:ext cx="347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V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Jö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GTS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örnyezetbarát gépjárművek el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jedésének ösztönz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95720" y="1090440"/>
            <a:ext cx="4943160" cy="1976400"/>
            <a:chOff x="4095720" y="1090440"/>
            <a:chExt cx="4943160" cy="1976400"/>
          </a:xfrm>
        </p:grpSpPr>
        <p:sp>
          <p:nvSpPr>
            <p:cNvPr id="176" name=""/>
            <p:cNvSpPr/>
            <p:nvPr/>
          </p:nvSpPr>
          <p:spPr>
            <a:xfrm>
              <a:off x="4400280" y="1090440"/>
              <a:ext cx="3641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. Bioenergia előállító old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5720" y="1510920"/>
              <a:ext cx="4943160" cy="15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- kis- és közepes kapacitású bio-üzemanyag gyára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nagyobb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kisebb helyi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biogáz erőműve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Times New Roman"/>
                </a:rPr>
                <a:t>lokális alkalmazás (lakosság, vidék, mg.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3680" y="3192480"/>
            <a:ext cx="411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Alapanyag termelői ol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9120" y="36133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elési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880" y="3979800"/>
            <a:ext cx="31172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ormatív földalapú támog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ergy crops premi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261120"/>
            <a:ext cx="534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. Horizontális, addicionális intézked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75520" y="6215040"/>
            <a:ext cx="30855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utatás-fejlesztés,  koordináci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eretátadás,  szabályozás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42320" y="361332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elés, létesítés támoga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62680" y="4076640"/>
            <a:ext cx="340668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echnológiai (termelő) eszközö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ergiaültetvények telepítési tá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62520" y="485316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iomassza feldolgozás, eljuttatás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34720" y="5246640"/>
            <a:ext cx="49035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süzemi elsődleges feldolgozók létesít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sztika (tárolás, szállítás, manipulálás stb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elői szerveződések, összefogások ösztönz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74880"/>
            <a:ext cx="360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9000" y="1103400"/>
            <a:ext cx="3692520" cy="200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1090440"/>
            <a:ext cx="4838760" cy="199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3222720"/>
            <a:ext cx="8585280" cy="30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17360" y="228600"/>
            <a:ext cx="3836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ámogatási 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5760" y="1066680"/>
            <a:ext cx="44632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Nemzeti forrású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emzeti Energiatakarékossági Program (N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utatási-fejlesztési támogatások (NK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op-up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0560" y="2666880"/>
            <a:ext cx="3300480" cy="24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özösségi (EU)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VE I-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TE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U 7. Keret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nter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M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IB hitel st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(Norvég Alap, Svájci Al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2000" y="5257800"/>
            <a:ext cx="47023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özösségi társfinanszírozott támogat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MFP (NFT II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MVP (EM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7720" y="228600"/>
            <a:ext cx="902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özösségi (EU) társfinanszírozott támogatások 2007-201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8480" y="838080"/>
            <a:ext cx="529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Fejlesztési Te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295280"/>
            <a:ext cx="7751520" cy="40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örnyezeti és Energia OP (KEOP) – Közép Magyarországi ROP (KM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EOP 4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ő- és villamos energia előállítása biomasszából (max. 20 M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iogáz rendsze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elletálás, brikett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0-50% V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ektorali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EOP 4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közepes és nagykapacitású bioetanol üzemek (40-60 kt, 80-120 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762120"/>
            <a:ext cx="87822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181480"/>
            <a:ext cx="87822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7080" y="5181480"/>
            <a:ext cx="674316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Vidékfejlesztési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apanyag termesztés, biomassza be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yben történő felhasználás, alapanyag előkész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zőgazdasági célú hasznos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4800" y="0"/>
            <a:ext cx="67431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 Magyarország Vidékfejlesztési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ioenerg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2480" y="914400"/>
            <a:ext cx="798660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z Európai Tanács 1698/2005. Ren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VA: Európai Mezőgazdasági és Vidékfejlesztési Alap (AVOP+NV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24200" y="1828800"/>
            <a:ext cx="56318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. Tengely versenyképes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I. Tengely környezet és vidék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II. Tengely vidéki diverzifik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V. Tengely L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0320" y="3352680"/>
            <a:ext cx="886752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1-23. cikk: bioenergiához kapcsolódó szakképzés, tájékozta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6. cikk: specifikus és nem specifikus termelőeszköz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álltatartó telepek korszerűsítése, trágyakezelés kapcsolt biogáz előállítás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ágy- és fás szárú energiaültetvények telepí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iomassza kazánok beszerzése (önállóan, kertészetben, szárítókná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8. cikk: helyi, kis nyersszesz és növényi olaj üzemek bio-üzemanyag gyártás céljá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5. cikk: bioenergia, biomassza Termelői Csopor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43., 45. cikk: erdőtele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+ preferálás az egyes intézkedések menté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4760" y="0"/>
            <a:ext cx="85672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ás szárú energiaültetvények telepítésének ÚMVP tá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007. évi XVII. t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3/2007. (IV.17.) FVM r. (Vh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72/2007. (VII.27.) FVM r. (jogcímrendel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17/2008. (X.7.) MVH közlemény (nyomtatványok, útmutat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9360" y="1969920"/>
            <a:ext cx="904896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en belül támogatható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arjaztatásos fás szárú energiaültetvények telepít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Célcsopor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termelők (min. 4 EU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osult terüle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művelés alatt álló terület (MePAR r. 1.§ g) pont), min. 1 ha parcellamé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ivéve: védett és Natura 2000 területek, azonos területre igénybevett telepítési támog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érelem beadása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október 1 – november 2. (több parcellára együttesen adható b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ás mértéke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40-60% (KAT, fiatal gazdálkodó) vissza nem térítendő, hektáronkénti m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Specifikus feltétel, kötelezettségek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évre szóló telepítési engedély meglé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értékesítés/felhasználás igazol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telepítés megvalósítása 12 hónapon belü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ültetvény fenn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épzé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ifizeté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utófinanszírozás, kifizetési kérelem, telepítés elvégzéséről szóló Hatósági igazol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4960" y="0"/>
            <a:ext cx="824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ergetikai növénytermesztés kiegészítő területalap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ámoga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295280"/>
            <a:ext cx="60195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grárdiplomáciai siker:  az Energy Crops Premium közvetlen alkalmazása 2007-tő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782/2003/EK rendelet 88. cik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793/2004. EK rendelet közvetlen alkalma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iegészítő támogatás nagysága: 45 €/ha (2 millió 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mogatás kedvezményezettje: mezőgazdasági termel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640" y="4038480"/>
            <a:ext cx="77626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ultúra függvényében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SAPS, GOFR top-up jogosult + 45 €/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ámogatás feltételei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támogatható terület (SAPS jogos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lismert piaci szereplővel (felvásárlóval, va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sődleges feldolgozóval) kötött szerződé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reprezentatív hozamok elér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szállítási, betakarítási bizonyl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2600" y="6127920"/>
            <a:ext cx="5577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gszabály: 63/2008. (V.6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280" y="152280"/>
            <a:ext cx="863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79760" y="708120"/>
            <a:ext cx="448596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78/2007. (VII.30.) FVM rend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23/2007. (IV.26.) FVM rendelet (EMVA Vhr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2007. évi XVII. tv. (MVH tv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14040" y="1676520"/>
            <a:ext cx="917244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ható tevékenység: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g. célú energiafelhasználást szolgáló biomassza kazán beszerzé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apcsolódó szerelvények (kémény, puffer tartály stb.) szekunder oldal, installálási költség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(értésítési célú szárított takarmány más jogcím – State aid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nyújtá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2009-től (2008-ban más jogcímek fedik le, kertészet, szárító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Célcsoport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mg. termelők (min. 4 EUME), termelői csoporto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Támogatás mértéke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VNT, 35%, kérelmenként max. 30 millió Ft (85 m.Ft-os fejleszté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Kifizeté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utófinanszírozás, kifizetett számlák alapján, kifizetési kérelem benyújtásával, beruház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efejezésére vonatkozó gépészmérnök által kiállított igazoláss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 specifikus feltétel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gépészmérnök által jóváhagyott technológiai ter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yilatkozat a felhasználni tervezett biomassza forrásáról, formájáró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ötelező képzé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96280" y="152280"/>
            <a:ext cx="86374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lyta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7920" y="1363680"/>
            <a:ext cx="85186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Jogcím specifikus kötelezettsége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ejlesztés megvalósítása, üzemben 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állagmegóv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előállított energia mezőgazdasági célú felhasználása (max. 25% egyé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vállalt kötelezettségek (létszám, naturális adat) szinten tartá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induló vállalkozásnak a 4 EUME eléré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(képzésen történő részvéte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ntozás: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ejlesztés szükségessé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ertészetre, állattenyésztésre gyakorolt hatás (számítot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orszerűség (automatizáltság, szabvány, hatásfo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foglalkoztatási hatá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megvalósítás helye (hátrányos helyzetű térsé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nők, csökkent munkaképességű foglalkoztatása, roma felzárkóztatá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költség-haszon elemzé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480" y="0"/>
            <a:ext cx="80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gújuló energiaforrások kulcsterület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zempontjai - Magyarorszá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0600" y="1298520"/>
            <a:ext cx="81176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. Energiapoli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nergiaellátás diverzifikációja, olaj- és gázfüggőség mérséklé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. Környezet és természetvéd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ibocsátás csökkentése, energetikai szennyvíz és szerves hulladék hasznosítá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. Mezőgazdaság, vidék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rmelési- és piaci struktúraváltás, vidékfejleszté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. EU elvárások teljes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zankciók megelőzése, új EU célkitűzések, 2001/77/EK, 2003/30/EK irányelv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. Nemzetgazdasági megfontolások, komplex gazdaság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DP, fizetési mérleg, költségvetési hatások, foglalkoztatás, új versenyképes iparág, K+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96280" y="152280"/>
            <a:ext cx="863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kazánok beszerzésének támogatása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5240" y="1152360"/>
            <a:ext cx="426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/2007. (III.27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160" y="1822320"/>
            <a:ext cx="59216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ényszárítókhoz kapcsolt biomassza kaz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yújtási határidő: május 30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93600" y="3352680"/>
            <a:ext cx="411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/2007. (III.7.) FVM rend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3720" y="4038480"/>
            <a:ext cx="49888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tészethez kapcsolt biomassza kaz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yújtási határidő: május 30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52840" y="520560"/>
            <a:ext cx="5443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öszönöm a megtisztelő figyelm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3130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9400" y="228600"/>
            <a:ext cx="89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zőgazdaság szerepe a megújulók területé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8600" y="2666880"/>
            <a:ext cx="830628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iverzifikálható a piaci szerkez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ív, termőhelyi adottságokhoz jobban igazodó racionális földhasznála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léktermékek értékesít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szerű, produktív tárgya kezelés (biogáz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dolgozottabb, magasabb jövedelmet biztosító termékek előállít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költségek csökkentése (pl. szárítá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160" y="5826240"/>
            <a:ext cx="8413200" cy="82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elők jövedelemszerzési lehetőségeinek megőrzése, javí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j munkahelyek, vidékfejlesz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24440" y="4875120"/>
            <a:ext cx="990360" cy="868320"/>
          </a:xfrm>
          <a:prstGeom prst="downArrow">
            <a:avLst>
              <a:gd name="adj1" fmla="val 44870"/>
              <a:gd name="adj2" fmla="val 494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120" y="1066680"/>
            <a:ext cx="89330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nntartható módon biztosítani a szükséges biomassza mennyisé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yben felhasználással hozzájárulni az országos célokh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92160" y="0"/>
            <a:ext cx="370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tüzelés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10560" y="3505320"/>
            <a:ext cx="61167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sszilis energiahordozók árának emelked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árható kötelezettségek a megújuló energiaforrások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08400" y="4416480"/>
            <a:ext cx="685800" cy="838080"/>
          </a:xfrm>
          <a:prstGeom prst="downArrow">
            <a:avLst>
              <a:gd name="adj1" fmla="val 50000"/>
              <a:gd name="adj2" fmla="val 30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360" y="5224320"/>
            <a:ext cx="8241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növekvő szilárd biomassza kereslet minden szegmens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1920" y="5735520"/>
            <a:ext cx="759348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40 kW alatti kiskazánok (lakosság, KK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40 kW – 1,5 MW közepes berendezések (önkormányzatok, KKV, mg. üzem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1,5 MW feletti fűtőművek, kis kogenerációs erőművek (önkormányzatok, nagyobb gyára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20 MW feletti erőműv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84360"/>
            <a:ext cx="76910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Times New Roman"/>
              </a:rPr>
              <a:t>Alapanyago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rdőgazdasági termék (tüzifa, vágástéri nyesedék, tuskó, ág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aipari hulladék (pl. forgá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Öregfa, használt fa begyűjtéséből származó hulladék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ezőgazdasági melléktermék (szár, szalma, csutka stb.), hulladék (nyesedék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Élelmiszeripari hulladék (pl. olajosmag-hé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ás szárú energiaültetvé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zántóföldi energianövény termesztésből (pl. Miscanthus, kender, energiafű stb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2600" y="3232080"/>
            <a:ext cx="819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90600" y="636480"/>
            <a:ext cx="8289360" cy="4697640"/>
            <a:chOff x="390600" y="636480"/>
            <a:chExt cx="8289360" cy="4697640"/>
          </a:xfrm>
        </p:grpSpPr>
        <p:grpSp>
          <p:nvGrpSpPr>
            <p:cNvPr id="60" name=""/>
            <p:cNvGrpSpPr/>
            <p:nvPr/>
          </p:nvGrpSpPr>
          <p:grpSpPr>
            <a:xfrm>
              <a:off x="396720" y="639720"/>
              <a:ext cx="8276040" cy="4690800"/>
              <a:chOff x="396720" y="639720"/>
              <a:chExt cx="8276040" cy="469080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96720" y="639720"/>
                <a:ext cx="2758320" cy="1133280"/>
                <a:chOff x="396720" y="639720"/>
                <a:chExt cx="2758320" cy="1133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56480" y="639720"/>
                  <a:ext cx="263844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gnevezés (átlagos fűtőérték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9672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3155400" y="639720"/>
                <a:ext cx="2758320" cy="1133280"/>
                <a:chOff x="3155400" y="639720"/>
                <a:chExt cx="2758320" cy="11332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215520" y="639720"/>
                  <a:ext cx="263808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tlagos egységá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15540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5914440" y="639720"/>
                <a:ext cx="2758320" cy="1133280"/>
                <a:chOff x="5914440" y="639720"/>
                <a:chExt cx="2758320" cy="11332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5974560" y="639720"/>
                  <a:ext cx="2638080" cy="11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ajlagos á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*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914440" y="639720"/>
                  <a:ext cx="2758320" cy="113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396720" y="1773000"/>
                <a:ext cx="2758320" cy="452880"/>
                <a:chOff x="396720" y="1773000"/>
                <a:chExt cx="2758320" cy="4528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56480" y="1773000"/>
                  <a:ext cx="26384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öldgáz (34 MJ/m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672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155400" y="1773000"/>
                <a:ext cx="2758320" cy="452880"/>
                <a:chOff x="3155400" y="1773000"/>
                <a:chExt cx="2758320" cy="452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215520" y="1773000"/>
                  <a:ext cx="263808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 Ft/m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15540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914440" y="1773000"/>
                <a:ext cx="2758320" cy="452880"/>
                <a:chOff x="5914440" y="1773000"/>
                <a:chExt cx="2758320" cy="452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974560" y="1773000"/>
                  <a:ext cx="263808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95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914440" y="1773000"/>
                  <a:ext cx="27583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96720" y="2226240"/>
                <a:ext cx="2758320" cy="581760"/>
                <a:chOff x="396720" y="2226240"/>
                <a:chExt cx="2758320" cy="5817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56480" y="2226240"/>
                  <a:ext cx="263844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ényfa brikett bigbag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9672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155400" y="2226240"/>
                <a:ext cx="2758320" cy="581760"/>
                <a:chOff x="3155400" y="2226240"/>
                <a:chExt cx="2758320" cy="5817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215520" y="2226240"/>
                  <a:ext cx="263808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15540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5914440" y="2226240"/>
                <a:ext cx="2758320" cy="581760"/>
                <a:chOff x="5914440" y="2226240"/>
                <a:chExt cx="2758320" cy="581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974560" y="2226240"/>
                  <a:ext cx="2638080" cy="58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914440" y="2226240"/>
                  <a:ext cx="2758320" cy="58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96720" y="2808000"/>
                <a:ext cx="2758320" cy="452520"/>
                <a:chOff x="396720" y="2808000"/>
                <a:chExt cx="2758320" cy="4525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56480" y="280800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ásárolt faapríték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9672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155400" y="2808000"/>
                <a:ext cx="2758320" cy="452520"/>
                <a:chOff x="3155400" y="2808000"/>
                <a:chExt cx="2758320" cy="4525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215520" y="28080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15540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914440" y="2808000"/>
                <a:ext cx="2758320" cy="452520"/>
                <a:chOff x="5914440" y="2808000"/>
                <a:chExt cx="2758320" cy="4525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974560" y="28080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14440" y="28080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6720" y="3260880"/>
                <a:ext cx="2758320" cy="452520"/>
                <a:chOff x="396720" y="3260880"/>
                <a:chExt cx="2758320" cy="4525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56480" y="326088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rmelt faapríték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672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155400" y="3260880"/>
                <a:ext cx="2758320" cy="452520"/>
                <a:chOff x="3155400" y="3260880"/>
                <a:chExt cx="2758320" cy="4525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215520" y="32608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7,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5540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914440" y="3260880"/>
                <a:ext cx="2758320" cy="452520"/>
                <a:chOff x="5914440" y="3260880"/>
                <a:chExt cx="2758320" cy="4525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974560" y="32608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914440" y="32608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96720" y="3713400"/>
                <a:ext cx="2758320" cy="452520"/>
                <a:chOff x="396720" y="3713400"/>
                <a:chExt cx="2758320" cy="452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56480" y="371340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yesedék (12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9672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155400" y="3713400"/>
                <a:ext cx="2758320" cy="452520"/>
                <a:chOff x="3155400" y="3713400"/>
                <a:chExt cx="2758320" cy="4525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215520" y="37134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15540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914440" y="3713400"/>
                <a:ext cx="2758320" cy="452520"/>
                <a:chOff x="5914440" y="3713400"/>
                <a:chExt cx="2758320" cy="4525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974560" y="371340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914440" y="371340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96720" y="4166280"/>
                <a:ext cx="2758320" cy="452520"/>
                <a:chOff x="396720" y="4166280"/>
                <a:chExt cx="2758320" cy="452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56480" y="4166280"/>
                  <a:ext cx="263844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zalma (12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672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155400" y="4166280"/>
                <a:ext cx="2758320" cy="452520"/>
                <a:chOff x="3155400" y="4166280"/>
                <a:chExt cx="2758320" cy="4525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215520" y="41662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15540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5914440" y="4166280"/>
                <a:ext cx="2758320" cy="452520"/>
                <a:chOff x="5914440" y="4166280"/>
                <a:chExt cx="2758320" cy="4525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974560" y="4166280"/>
                  <a:ext cx="2638080" cy="45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14440" y="4166280"/>
                  <a:ext cx="2758320" cy="45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96720" y="4619160"/>
                <a:ext cx="2758320" cy="711360"/>
                <a:chOff x="396720" y="4619160"/>
                <a:chExt cx="2758320" cy="711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56480" y="4619160"/>
                  <a:ext cx="263844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tőmagszárításkor képződő kukoricacsutka (14 GJ/t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672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155400" y="4619160"/>
                <a:ext cx="2758320" cy="711360"/>
                <a:chOff x="3155400" y="4619160"/>
                <a:chExt cx="2758320" cy="711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215520" y="4619160"/>
                  <a:ext cx="263808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 ezer Ft/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5540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914440" y="4619160"/>
                <a:ext cx="2758320" cy="711360"/>
                <a:chOff x="5914440" y="4619160"/>
                <a:chExt cx="2758320" cy="711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974560" y="4619160"/>
                  <a:ext cx="2638080" cy="71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1 Ft/M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914440" y="4619160"/>
                  <a:ext cx="2758320" cy="71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390600" y="636480"/>
              <a:ext cx="8289360" cy="469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742760" y="0"/>
            <a:ext cx="5988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iaforrások összehasonl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320" y="5583240"/>
            <a:ext cx="9023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az átlagos előállítási, beszerzési árak tájékoztatóak a helyi adottságok függvényébe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jelentősen szóródha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* energiahordozó árára vetítve, hatásfokkal nem korrigált (1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767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5880" y="6248520"/>
            <a:ext cx="90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arbantartási igénnyel, tárolás, hatásfokkal stb. korrigálv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50-70%-os megtakarítás!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47800" y="198360"/>
            <a:ext cx="370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omassza tüzelés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85560" y="1098720"/>
            <a:ext cx="459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 jelenthet a termelőkn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88920" y="1871640"/>
            <a:ext cx="69534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ját felhaszn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övekvő kereslet = p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léktermékek, hulladék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élirányos energetikai növényterm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ternatív, a termőhelyhez igazodó kultúrák termeszté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77720" y="4172040"/>
            <a:ext cx="1377720" cy="80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2560" y="4237200"/>
            <a:ext cx="1349280" cy="80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8640" y="5151600"/>
            <a:ext cx="4444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ágy szárú energianöv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afű (szikes talajok, szárazságtű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anthus (magas vízkapacitású talaj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nder-, cirok-, fűfélék stb., stb.,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7040" y="5153040"/>
            <a:ext cx="2943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ás szárú energianöv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ix (belvizes terület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ácfa (gyenge talajo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árfa, éger, mályva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17080" y="193680"/>
            <a:ext cx="539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ergetikai növénytermesz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3880" y="762120"/>
            <a:ext cx="4174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anyigazság” – alapelv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640" y="1371600"/>
            <a:ext cx="8152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. Nem a kultúrához kell területet, hanem az ad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ülethez (piachoz) kell megválasztani az optimális kultúrá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. A biomassza mixet a helyi adottságok figyelemb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vételével kell összeállíta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400" y="3581280"/>
            <a:ext cx="86997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gnosztizált országos szükséglet, igé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3.992 GWh/év + 50 PJ/év (24 PJ/év lakossági, 26 PJ/év közösségi fűtőműve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lapanyagának biztosítása = kb.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7,8 – 8 millió tonna/é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jelenlegi erdőállomány és az új telepítések 2010, 2013, 2015 stb. -re nem képes biztosít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zt a mennyiséget, helyenként jelenleg is feszültéségek tapasztalhatóa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öbb forrásból: erdészeti termékek, apadék, lágy szárú (szántóföldi) energianövénye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ás szárú energiaültetvények,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melléktermékek és hulladék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6800" y="0"/>
            <a:ext cx="8004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120" y="1219320"/>
            <a:ext cx="71679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lepítése engedélyhez kötött tevékenység (miért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lenőrizhetőség (erdőtől történő lehatárolá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aporítóanyag nyomon követése (növény eü. előíráso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jogviták, visszaélések elkerül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lenőrzött, hézagmentes nyilvántartás (ld. energy crops premi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akmai szempontok érvényesíté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ermészetvédelmi oltalom alatt álló területek védel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vazív fajok elterjedésének megakadályoz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alajvédelem, termőképesség visszaállításának ellenőrzé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5560" y="4816440"/>
            <a:ext cx="814680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orm. R. felépítése: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lehatárolások, definíciók (hengeres, sarjaztatá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kérelem benyújtásának feltéte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ljárás mente (telepítés – felszámol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hatósági ellenőrzés köre, szankci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záró és átmeneti rendelkez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hatálybalépés, korábban telepített ültetvénye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2280" y="762120"/>
            <a:ext cx="6838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71/2007. (IV.14.) Korm.r., 45/2007. (VI.11.) FVM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ed4c"/>
            </a:gs>
            <a:gs pos="50000">
              <a:srgbClr val="99ff99"/>
            </a:gs>
            <a:gs pos="100000">
              <a:srgbClr val="3bed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24520" y="152280"/>
            <a:ext cx="80049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ás szárú energiaültetvények szabályozása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, hol, milyen szaporítóanyagbó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981080"/>
            <a:ext cx="916308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icsod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földhasználó (tulajdonos, bérlő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Hol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aját vagy bérelt földterületen (HRSZ, blokkazonosító, bérleti szerződés, tulajd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s hozzájáruló nyilatkozata). Természetvédelmi oltalom alatt álló területeken a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atóság szakhatóságként jár el. Termőhelyi megfelelőssé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tura 2000 és természeti oldatom alatt álló területen akác nem telepíthető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Milyen szaporítóanyagból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ellenőrzött forrásból (engedélyes csemetekert, impor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állítói származási bizonylat, EK növényútlevél, GMO mentes csemete), amelyik me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elel a Vhr. 2.§-ban foglaltakn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59:20Z</dcterms:created>
  <dc:creator>tisztv</dc:creator>
  <dc:description/>
  <dc:language>en-US</dc:language>
  <cp:lastModifiedBy>RJ</cp:lastModifiedBy>
  <dcterms:modified xsi:type="dcterms:W3CDTF">2008-12-02T14:35:05Z</dcterms:modified>
  <cp:revision>106</cp:revision>
  <dc:subject/>
  <dc:title>PowerPoint bemutató</dc:title>
</cp:coreProperties>
</file>