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3A0-6FFB-4938-AF94-4F561E95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2EF-E805-4C4A-8887-201CDCB6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A295-9F24-41F6-9AF4-61F51B647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939960" y="747720"/>
            <a:ext cx="4919400" cy="3689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B0DF-2ACA-4BB2-AF5F-F551C1FB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B728-263D-4BBB-825E-2E728FF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2EAFB-9C70-47C9-BE9F-B70AF0A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CD0E0-7CF9-4679-8C69-FF569F8B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61A7-E73E-4A91-A86C-EA9BB89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683D9-F718-4046-92D2-3D1F2FC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CE96-441E-4D52-B563-920B594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653FC-2B9A-481A-9B3F-2A427452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1A5A-2B34-4631-82AB-1747F620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7C1E8-3A6B-4A0E-9B36-8E707182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B909-F383-4D99-A57C-B24627EE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2733-0A87-4937-9FAB-6D88B935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6248520"/>
            <a:ext cx="843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0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Moha, 2008. október . 15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	</a:t>
            </a:r>
            <a:fld id="{C6A8CD7F-AB54-42C1-81D4-4CF6C0001A31}" type="slidenum">
              <a:rPr b="0" i="1" lang="hu-HU" sz="1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r>
              <a:rPr b="0" i="1" lang="hu-HU" sz="1000" spc="-1" strike="noStrike">
                <a:solidFill>
                  <a:srgbClr val="ffff00"/>
                </a:solidFill>
                <a:latin typeface="Arial"/>
              </a:rPr>
              <a:t> /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114000" y="33228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Raiffeisen Energiaszolgáltató Kft. </a:t>
            </a:r>
            <a:r>
              <a:rPr b="1" lang="hu-HU" sz="2200" spc="-1" strike="noStrike">
                <a:solidFill>
                  <a:srgbClr val="ffff00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39600" cy="79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A16-A2D6-4BFF-B864-0FC10E818B46}" type="slidenum">
              <a:rPr b="0" lang="hu-H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05160" y="289440"/>
            <a:ext cx="456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Futura CE Book"/>
              </a:rPr>
              <a:t>Raiffeisen Energiaszolgáltató Kft.</a:t>
            </a:r>
            <a:r>
              <a:rPr b="1" lang="hu-HU" sz="2200" spc="-1" strike="noStrike">
                <a:solidFill>
                  <a:srgbClr val="ffffff"/>
                </a:solidFill>
                <a:latin typeface="Futura CE Book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84840" y="38480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5950080"/>
            <a:ext cx="8785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Futura CE Medium"/>
              </a:rPr>
              <a:t>Természetes megoldások európai színvonal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2349360"/>
            <a:ext cx="431964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00"/>
                </a:solidFill>
                <a:latin typeface="Futura CE Book"/>
              </a:rPr>
              <a:t>Energiaültetvények egy lehetséges finanszírozási mód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ffff00"/>
                </a:solidFill>
                <a:latin typeface="Futura CE Book"/>
              </a:rPr>
              <a:t>Simon And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4909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ÉRDEMES TUDNI RÓLU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13372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Raiffeisen Lízing Zrt. 100%-os leányválla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pénzügyi befekt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nem klasszikus banki finanszír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ségi tulajdonosi szerepünknek köszönhetően a beruházási érték akár 100%-a is finanszírozha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Futura CE Book"/>
              </a:rPr>
              <a:t>több éves energiatermelési tapaszta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TEVÉKENYSÉGÜ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289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Szél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ás szárú energiaültetvények &amp; pelletáló üzem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Biogáz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Víziközmű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Futura CE Book"/>
              </a:rPr>
              <a:t>Fatüzelésű erőműv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867280" y="1773360"/>
            <a:ext cx="2934000" cy="13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4427640" y="1773360"/>
            <a:ext cx="143676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427640" y="3213000"/>
            <a:ext cx="144144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5867280" y="4724280"/>
            <a:ext cx="2952720" cy="13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4427640" y="4724280"/>
            <a:ext cx="144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5867280" y="3357720"/>
            <a:ext cx="295452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22320"/>
            <a:ext cx="8352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. átgondolt, megalapozott üzleti tervvel rendelkezik (az ötlet nem elé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kipróbált szaporítóanyag megfelelő mennyiségben, kiszámítható áron biztosíth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 szükséges, kipróbált művelési technológia időben megrendelésre ker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értékesítésre hosszú távú szerződések köthetők regisztrált kereskedővel vagy végfelhasználó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logisztikailag hatékony (ültetvény és vevő távolság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árfolyamkockázatot nem, vagy csak kismértékben váll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 </a:t>
            </a:r>
            <a:r>
              <a:rPr b="0" i="1" lang="hu-HU" sz="1600" spc="-1" strike="noStrike">
                <a:solidFill>
                  <a:srgbClr val="ffff00"/>
                </a:solidFill>
                <a:latin typeface="Futura CE Book"/>
              </a:rPr>
              <a:t>alternatív értékesítési lehetőséggel rendelkez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. beruházási költségvetése min. 200 millió 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Futura CE Book"/>
              </a:rPr>
              <a:t>III. A leendő telepítő nagy mezőgazdasági gyakorlattal és hosszú távú   földhasználati joggal rendelkezik, valamint pályázhat energiaültetvény telepítési támogatás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Futura CE Book"/>
              </a:rPr>
              <a:t>SZERINTÜNK EGY JÓ ÜLTETVÉNY PROJEK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4005360"/>
            <a:ext cx="115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>
            <a:off x="4067280" y="4221000"/>
            <a:ext cx="79200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4000" y="4292640"/>
            <a:ext cx="720720" cy="86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Futura CE Book"/>
              </a:rPr>
              <a:t>PROJEKTJEINK ÁLTALÁNOS STRUKTÚR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325200">
            <a:off x="4023360" y="4651920"/>
            <a:ext cx="156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üzemel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716280"/>
            <a:ext cx="136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2560" y="3735360"/>
            <a:ext cx="124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1720" y="3789360"/>
            <a:ext cx="22122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Projekttársasá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57800" y="5300640"/>
            <a:ext cx="221364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Az „ötlet gazd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040" y="2997360"/>
            <a:ext cx="25200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3760" y="1773360"/>
            <a:ext cx="267840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Futura CE Book"/>
              </a:rPr>
              <a:t>Raiffeisen Bank Z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3560" y="2924280"/>
            <a:ext cx="9579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Vevő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4941720"/>
            <a:ext cx="132876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Futura CE Book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3429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4880" y="4416840"/>
            <a:ext cx="238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szindikátusi megállapo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868800">
            <a:off x="2921040" y="4503960"/>
            <a:ext cx="13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00280" y="3573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osztalé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32000" y="3499920"/>
            <a:ext cx="115272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131640" y="3068280"/>
            <a:ext cx="12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70600">
            <a:off x="2847600" y="299736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pénzügyi működtetés / dí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427280" y="1989000"/>
            <a:ext cx="1657080" cy="165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801400">
            <a:off x="4269960" y="2837160"/>
            <a:ext cx="16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Futura CE Book"/>
              </a:rPr>
              <a:t>kölcsönszerződ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LÉPÉSEK A FINANSZÍROZÁSI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Együttműködési megállapodás lehet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Arial"/>
              </a:rPr>
              <a:t>Pozitív finanszírozási dönt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További lépés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1. Szükséges telepítési engedély besze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2. Finanszírozáshoz szükséges szerződések megkötése (társasági / üzletrész vásárlási, szindikátusi, hitel-, szolgáltatási, üzemeltetési stb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3. Szaporítóanyag-, technológia szállítói, földbérleti és értékesítési szerződések megkö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Futura CE Book"/>
              </a:rPr>
              <a:t>4. Finanszírozás megkez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ELÉRHETŐSÉGE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916280"/>
            <a:ext cx="856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Simon András projekt koordin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Tel.: (06-1) 298-81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Fax: (06-1) 298-8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Mobil: (06-20) 429-57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-mail: 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energy@raiffeisen.hu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00"/>
                </a:solidFill>
                <a:latin typeface="Futura CE Book"/>
              </a:rPr>
              <a:t>andras.simon@raiffeisen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2400" spc="-1" strike="noStrike">
                <a:solidFill>
                  <a:srgbClr val="ffcc00"/>
                </a:solidFill>
                <a:latin typeface="Futura CE Book"/>
              </a:rPr>
              <a:t>www.raiffeisenenergy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Futura CE Book"/>
              </a:rPr>
              <a:t>VISZONTLÁTÁSRA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359000"/>
            <a:ext cx="700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276640"/>
            <a:ext cx="8569080" cy="24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Futura CE Book"/>
              </a:rPr>
              <a:t>	</a:t>
            </a:r>
            <a:r>
              <a:rPr b="1" lang="hu-HU" sz="3200" spc="-1" strike="noStrike">
                <a:solidFill>
                  <a:srgbClr val="ffff00"/>
                </a:solidFill>
                <a:latin typeface="Futura CE Book"/>
              </a:rPr>
              <a:t>KÖSZÖNÖM A FIGYELMÜ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795400" cy="9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29:20Z</dcterms:created>
  <dc:creator>RBH</dc:creator>
  <dc:description/>
  <dc:language>en-US</dc:language>
  <cp:lastModifiedBy>RJ</cp:lastModifiedBy>
  <cp:lastPrinted>2005-07-14T10:48:55Z</cp:lastPrinted>
  <dcterms:modified xsi:type="dcterms:W3CDTF">2008-12-02T14:34:21Z</dcterms:modified>
  <cp:revision>483</cp:revision>
  <dc:subject/>
  <dc:title>No Slide Title</dc:title>
</cp:coreProperties>
</file>