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E71A-4125-4807-837D-ADBCF3000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05DD-2D72-426A-A237-7F2AFDFD4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9400" cy="3689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430A-09FD-4F2F-A2A6-4BBE47C85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9400" cy="3689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DC031-C8FE-40E0-BECE-EDA5397A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C8BE5-1CF6-4A52-961F-43A60B04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A9F40-6424-41E7-94A4-0DEB0EE7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8AE77-4879-437C-B0DE-1C476540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1FA49-A9F1-481E-88B8-4C3A6780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BABCE-C3AF-4992-AA1D-64554854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93206-14F5-472D-846A-FCBA2925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B386F-75E5-460B-ABA8-8FC8F64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8FC57-C1E4-42E9-A8A4-1A85B370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775A3-CB2F-4903-86B5-FD74F760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F37EB-435F-433B-8AD1-067DA64D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E1657-56C0-45EB-B793-8C397CF9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6248520"/>
            <a:ext cx="843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u-HU" sz="1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Moha, 2008. október . 15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fld id="{89B8DCB0-EBBF-4839-BCF9-F4D7317F1B72}" type="slidenum">
              <a:rPr b="0" i="1" lang="hu-HU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 /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114000" y="33228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Raiffeisen Energiaszolgáltató Kft. </a:t>
            </a:r>
            <a:r>
              <a:rPr b="1" lang="hu-HU" sz="2200" spc="-1" strike="noStrike">
                <a:solidFill>
                  <a:srgbClr val="ffff00"/>
                </a:solidFill>
                <a:latin typeface="Futura CE Boo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939600" cy="79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C7FE-98B1-4693-B36D-E6DBC31A49B8}" type="slidenum">
              <a:rPr b="0" lang="hu-H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05160" y="289440"/>
            <a:ext cx="456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Futura CE Book"/>
              </a:rPr>
              <a:t>Raiffeisen Energiaszolgáltató Kft.</a:t>
            </a:r>
            <a:r>
              <a:rPr b="1" lang="hu-HU" sz="2200" spc="-1" strike="noStrike">
                <a:solidFill>
                  <a:srgbClr val="ffffff"/>
                </a:solidFill>
                <a:latin typeface="Futura CE Boo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84840" y="38480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5950080"/>
            <a:ext cx="8785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Futura CE Medium"/>
              </a:rPr>
              <a:t>Természetes megoldások európai színvonal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2349360"/>
            <a:ext cx="431964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Futura CE Book"/>
              </a:rPr>
              <a:t>Energiaültetvények egy lehetséges finanszírozási mód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00"/>
                </a:solidFill>
                <a:latin typeface="Futura CE Book"/>
              </a:rPr>
              <a:t>Simon Andr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4909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ÉRDEMES TUDNI RÓLU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4005360"/>
            <a:ext cx="115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13372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Raiffeisen Lízing Zrt. 100%-os leányvállal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pénzügyi befektet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nem klasszikus banki finanszíroz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többségi tulajdonosi szerepünknek köszönhetően a beruházási érték akár 100%-a is finanszírozha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több éves energiatermelési tapaszta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TEVÉKENYSÉGÜ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228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Szél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Fás szárú energiaültetvények &amp; pelletáló üzem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Biogáz 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Víziközmű szolgálta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Fatüzelésű 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867280" y="1773360"/>
            <a:ext cx="2934000" cy="131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4427640" y="1773360"/>
            <a:ext cx="1436760" cy="1439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4427640" y="3213000"/>
            <a:ext cx="1441440" cy="1511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5867280" y="4724280"/>
            <a:ext cx="2952720" cy="130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427640" y="4724280"/>
            <a:ext cx="1446120" cy="12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5867280" y="3357720"/>
            <a:ext cx="2954520" cy="1366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1822320"/>
            <a:ext cx="8352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. átgondolt, megalapozott üzleti tervvel rendelkezik (az ötlet nem elé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kipróbált szaporítóanyag megfelelő mennyiségben, kiszámítható áron biztosíthat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a szükséges, kipróbált művelési technológia időben megrendelésre kerü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értékesítésre hosszú távú szerződések köthetők regisztrált kereskedővel vagy végfelhasználó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logisztikailag hatékony (ültetvény és vevő távolság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árfolyamkockázatot nem, vagy csak kismértékben váll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alternatív értékesítési lehetőséggel rendelkezi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I. beruházási költségvetése min. 200 millió 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II. A leendő telepítő nagy mezőgazdasági gyakorlattal és hosszú távú   földhasználati joggal rendelkezik, valamint pályázhat energiaültetvény telepítési támogatás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Futura CE Book"/>
              </a:rPr>
              <a:t>SZERINTÜNK EGY JÓ ÜLTETVÉNY PROJEK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4005360"/>
            <a:ext cx="115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H="1">
            <a:off x="4067280" y="4221000"/>
            <a:ext cx="79200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564000" y="4292640"/>
            <a:ext cx="720720" cy="86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Futura CE Book"/>
              </a:rPr>
              <a:t>PROJEKTJEINK ÁLTALÁNOS STRUKTÚRÁ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325200">
            <a:off x="4023360" y="465192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üzemeltetés / dí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716280"/>
            <a:ext cx="136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2560" y="3735360"/>
            <a:ext cx="124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1720" y="3789360"/>
            <a:ext cx="22122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Projekttársasá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57800" y="5300640"/>
            <a:ext cx="221364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Az „ötlet gazd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040" y="2997360"/>
            <a:ext cx="25200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Raiffeisen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3760" y="1773360"/>
            <a:ext cx="26784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Raiffeisen Bank Z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23560" y="2924280"/>
            <a:ext cx="95796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Futura CE Book"/>
              </a:rPr>
              <a:t>Vevő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4941720"/>
            <a:ext cx="132876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Futura CE Book"/>
              </a:rPr>
              <a:t>Szállító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342900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4880" y="4416840"/>
            <a:ext cx="238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szindikátusi megállapodá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868800">
            <a:off x="2921040" y="4503960"/>
            <a:ext cx="13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osztalé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00280" y="3573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osztalé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132000" y="3499920"/>
            <a:ext cx="115272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131640" y="3068280"/>
            <a:ext cx="129564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70600">
            <a:off x="2847600" y="299736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pénzügyi működtetés / dí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427280" y="1989000"/>
            <a:ext cx="1657080" cy="165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2801400">
            <a:off x="4269960" y="2837160"/>
            <a:ext cx="16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kölcsönszerződ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LÉPÉSEK A FINANSZÍROZÁSI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Együttműködési megállapodás lehető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Arial"/>
              </a:rPr>
              <a:t>Pozitív finanszírozási dön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További lépés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1. Szükséges telepítési engedély besze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2. Finanszírozáshoz szükséges szerződések megkötése (társasági / üzletrész vásárlási, szindikátusi, hitel-, szolgáltatási, üzemeltetési stb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3. Szaporítóanyag-, technológia szállítói, földbérleti és értékesítési szerződések megkö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4. Finanszírozás megkezd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ELÉRHETŐSÉGE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1359000"/>
            <a:ext cx="700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916280"/>
            <a:ext cx="8569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Simon András projekt koordiná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Tel.: (06-1) 298-81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Fax: (06-1) 298-8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Mobil: (06-20) 429-573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E-mail: 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energy@raiffeisen.hu 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andras.simon@raiffeisen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www.raiffeisenenergy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VISZONTLÁTÁSRA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359000"/>
            <a:ext cx="700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2276640"/>
            <a:ext cx="8569080" cy="24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3200" spc="-1" strike="noStrike">
                <a:solidFill>
                  <a:srgbClr val="ffff00"/>
                </a:solidFill>
                <a:latin typeface="Futura CE Book"/>
              </a:rPr>
              <a:t>KÖSZÖNÖM A FIGYELMÜKE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2795400" cy="91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3:29:20Z</dcterms:created>
  <dc:creator>RBH</dc:creator>
  <dc:description/>
  <dc:language>en-US</dc:language>
  <cp:lastModifiedBy>RJ</cp:lastModifiedBy>
  <cp:lastPrinted>2005-07-14T10:48:55Z</cp:lastPrinted>
  <dcterms:modified xsi:type="dcterms:W3CDTF">2008-12-02T14:34:21Z</dcterms:modified>
  <cp:revision>483</cp:revision>
  <dc:subject/>
  <dc:title>No Slide Title</dc:title>
</cp:coreProperties>
</file>