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4E0F-F5F1-410F-85B1-058CAAB0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616-0EF3-416A-BF4D-2957A10C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F244-8F89-456D-A49C-7DFC1999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267C-61FC-43C7-A742-41B245B8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474F-80A1-4518-BEFA-37AE2BA1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C49-0CD1-4B3B-9482-9D1DD0F9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EBFA-1C3E-45DF-82A9-4BE160EF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725-C993-4879-8947-481C17B5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C02-9DE0-43ED-8FF1-304DD6D7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FA6-9288-4F4F-BAE2-26281212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5DF-D02F-4FFB-A280-D6B2A9F5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2AE7-E370-4A17-B722-1C03E7AE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5A6D-9336-4AB9-87C1-029139A097B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87840" y="2819520"/>
            <a:ext cx="73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z energetikai ültetvények szerepe a mezőgazdaság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pítésüknek, ösztönzésüknek szabályoz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41480" y="5638680"/>
            <a:ext cx="198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8. október 1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84760" y="4267080"/>
            <a:ext cx="16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ga Ta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24520" y="228600"/>
            <a:ext cx="8004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ás szárú energiaültetvények szabályozása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0080" y="762120"/>
            <a:ext cx="7284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járó hatóság: Mezőgazdasági Szakigazgatási Hiva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23760" y="1371600"/>
            <a:ext cx="9237600" cy="51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Eljárás mene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lepítési kérelem beadás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5 napon belül értesítés a kérelem befogadásáról v. hiánypótlás (30 na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ngedél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lepítést követő 15 napon belül bejelentés a telepítés elvégzésérő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elyszíni ellenőrzés (engedélyben foglaltak), Hatósági nyilatkozat, nyilvántartá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enntartás ideje alatti Hatósági ellenőrzés (pl. változtatás, invazív terjeszkedé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elszámolást, helyreállítást követő bejelentés 15 napon belü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atóság helyszíni ellenőrzése (szakszerű megszüntetés), Hatósági nyilatkoz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Kérelem elemei (formanyomtatván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zonosító adatok (név, lakhely, székhely, regisztrációs szám stb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rület azonosító adatai, csatolt dokumentumok (bérleti szerződés, tulj. nyilatkozat st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lepítési terv: szaporítóanyag származása, alkalmazott technológia, élettartam, fel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ámolás/megszűntetés során szükséges intézkedések st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11880" y="228600"/>
            <a:ext cx="74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vatkozási logika a bioenergia hasznosításá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61200" y="1295280"/>
            <a:ext cx="2224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gyasztó (pi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8680" y="2286000"/>
            <a:ext cx="220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ia előállí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7840" y="3200400"/>
            <a:ext cx="2512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panyag termel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210600" y="1562040"/>
            <a:ext cx="1067040" cy="2286000"/>
          </a:xfrm>
          <a:prstGeom prst="downArrow">
            <a:avLst>
              <a:gd name="adj1" fmla="val 50000"/>
              <a:gd name="adj2" fmla="val 52369"/>
            </a:avLst>
          </a:prstGeom>
          <a:gradFill rotWithShape="0">
            <a:gsLst>
              <a:gs pos="0">
                <a:srgbClr val="008160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43760" y="78732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énz- 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övedelemáraml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041560" y="1525680"/>
            <a:ext cx="990720" cy="2286000"/>
          </a:xfrm>
          <a:prstGeom prst="upArrow">
            <a:avLst>
              <a:gd name="adj1" fmla="val 50000"/>
              <a:gd name="adj2" fmla="val 57685"/>
            </a:avLst>
          </a:prstGeom>
          <a:gradFill rotWithShape="0">
            <a:gsLst>
              <a:gs pos="0">
                <a:srgbClr val="ffccff"/>
              </a:gs>
              <a:gs pos="100000">
                <a:srgbClr val="92759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360" y="801720"/>
            <a:ext cx="15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ag- 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iaáraml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0400" y="4267080"/>
            <a:ext cx="80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zabályozással, támogatásokkal (beavatkozásokkal) kapcsolatos kritérium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59480" y="4800600"/>
            <a:ext cx="675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Illeszkedjen a kitűzött célokho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gyensúlyi megközelítés (5 kulcsterület egyensúly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öltségvetés és fogyasztók teherbíró képessé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Verseny semleges, EU konform legye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orrásallokációs hatékony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gyenletes jövedelemelosztás (szinergia, térség és vidékfejleszté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00800" y="137160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236232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327672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6607440" y="23076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vatkozás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96960" y="0"/>
            <a:ext cx="59598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oenergia elterjesztése ösztönzésé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vatkozási logiká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9000" y="1116000"/>
            <a:ext cx="3752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 Piaci (értékesítési) ol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3040" y="1538280"/>
            <a:ext cx="347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V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Jö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GTS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örnyezetbarát gépjárművek elt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jedésének ösztönz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095720" y="1090440"/>
            <a:ext cx="4943160" cy="1976400"/>
            <a:chOff x="4095720" y="1090440"/>
            <a:chExt cx="4943160" cy="1976400"/>
          </a:xfrm>
        </p:grpSpPr>
        <p:sp>
          <p:nvSpPr>
            <p:cNvPr id="176" name=""/>
            <p:cNvSpPr/>
            <p:nvPr/>
          </p:nvSpPr>
          <p:spPr>
            <a:xfrm>
              <a:off x="4400280" y="1090440"/>
              <a:ext cx="36417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. Bioenergia előállító old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95720" y="1510920"/>
              <a:ext cx="4943160" cy="15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- kis- és közepes kapacitású bio-üzemanyag gyárak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nagyobb erőművek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kisebb helyi erőművek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biogáz erőművek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lokális alkalmazás (lakosság, vidék, mg.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3680" y="3192480"/>
            <a:ext cx="41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. Alapanyag termelői ol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79120" y="361332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rmelési támog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880" y="3979800"/>
            <a:ext cx="311724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normatív földalapú támogatá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nergy crops premi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261120"/>
            <a:ext cx="534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. Horizontális, addicionális intézkedés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75520" y="6215040"/>
            <a:ext cx="30855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utatás-fejlesztés,  koordináció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eretátadás,  szabályozás st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42320" y="3613320"/>
            <a:ext cx="32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rmelés, létesítés támoga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62680" y="4076640"/>
            <a:ext cx="340668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echnológiai (termelő) eszközö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nergiaültetvények telepítési tá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62520" y="4853160"/>
            <a:ext cx="46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iomassza feldolgozás, eljuttatás fejlesz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34720" y="5246640"/>
            <a:ext cx="490356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isüzemi elsődleges feldolgozók létesíté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sztika (tárolás, szállítás, manipulálás stb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melői szerveződések, összefogások ösztönzé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974880"/>
            <a:ext cx="360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9000" y="1103400"/>
            <a:ext cx="3692520" cy="200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51160" y="1090440"/>
            <a:ext cx="4838760" cy="199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1360" y="3222720"/>
            <a:ext cx="8585280" cy="301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17360" y="228600"/>
            <a:ext cx="3836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ámogatási 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5760" y="1066680"/>
            <a:ext cx="44632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Nemzeti forrású támog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Nemzeti Energiatakarékossági Program (NE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utatási-fejlesztési támogatások (NK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op-up st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0560" y="2666880"/>
            <a:ext cx="3300480" cy="24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Közösségi (EU) támog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AVE I-I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LTE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U 7. Keret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Inter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M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IB hitel st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(Norvég Alap, Svájci Ala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02000" y="5257800"/>
            <a:ext cx="470232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özösségi társfinanszírozott támog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MFP (NFT II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MVP (EM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7720" y="228600"/>
            <a:ext cx="902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özösségi (EU) társfinanszírozott támogatások 2007-201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8480" y="838080"/>
            <a:ext cx="5299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j Magyarország Fejlesztési Te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295280"/>
            <a:ext cx="7751520" cy="40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örnyezeti és Energia OP (KEOP) – Közép Magyarországi ROP (KM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EOP 4.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ő- és villamos energia előállítása biomasszából (max. 20 M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iogáz rendszer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elletálás, brikettál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0-50% V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ektorali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EOP 4.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közepes és nagykapacitású bioetanol üzemek (40-60 kt, 80-120 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762120"/>
            <a:ext cx="878220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5181480"/>
            <a:ext cx="87822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7080" y="5181480"/>
            <a:ext cx="674316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j Magyarország Vidékfejlesztési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apanyag termesztés, biomassza begyűj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yben történő felhasználás, alapanyag előkész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zőgazdasági célú hasznosí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4800" y="0"/>
            <a:ext cx="674316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j Magyarország Vidékfejlesztési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ioenerg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2480" y="914400"/>
            <a:ext cx="798660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z Európai Tanács 1698/2005. Rende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VA: Európai Mezőgazdasági és Vidékfejlesztési Alap (AVOP+NV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24200" y="1828800"/>
            <a:ext cx="56318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. Tengely versenyképes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I. Tengely környezet és vidék fejlesz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II. Tengely vidéki diverzifikáci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V. Tengely 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0320" y="3352680"/>
            <a:ext cx="886752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1-23. cikk: bioenergiához kapcsolódó szakképzés, tájékozta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6. cikk: specifikus és nem specifikus termelőeszközö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álltatartó telepek korszerűsítése, trágyakezelés kapcsolt biogáz előállítás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lágy- és fás szárú energiaültetvények telepí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iomassza kazánok beszerzése (önállóan, kertészetben, szárítókná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8. cikk: helyi, kis nyersszesz és növényi olaj üzemek bio-üzemanyag gyártás céljá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35. cikk: bioenergia, biomassza Termelői Csopor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43., 45. cikk: erdőtelep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+ preferálás az egyes intézkedések menté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74760" y="0"/>
            <a:ext cx="856728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ás szárú energiaültetvények telepítésének ÚMVP tá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007. évi XVII. t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3/2007. (IV.17.) FVM r. (Vhr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72/2007. (VII.27.) FVM r. (jogcímrendel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17/2008. (X.7.) MVH közlemény (nyomtatványok, útmutató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-9360" y="1969920"/>
            <a:ext cx="904896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Jogcímen belül támogatható: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arjaztatásos fás szárú energiaültetvények telepíté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Célcsoport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mg. termelők (min. 4 EU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Jogosult terület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mg. művelés alatt álló terület (MePAR r. 1.§ g) pont), min. 1 ha parcellamé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ivéve: védett és Natura 2000 területek, azonos területre igénybevett telepítési támogatá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Kérelem beadása: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október 1 – november 2. (több parcellára együttesen adható b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Támogatás mértéke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40-60% (KAT, fiatal gazdálkodó) vissza nem térítendő, hektáronkénti ma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Specifikus feltétel, kötelezettségek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névre szóló telepítési engedély meglé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értékesítés/felhasználás igazolás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telepítés megvalósítása 12 hónapon belü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ültetvény fenntartás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(képzé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Kifizetés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utófinanszírozás, kifizetési kérelem, telepítés elvégzéséről szóló Hatósági igazolá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34960" y="0"/>
            <a:ext cx="824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ergetikai növénytermesztés kiegészítő területalap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ámoga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1295280"/>
            <a:ext cx="60195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Agrárdiplomáciai siker:  az Energy Crops Premium közvetlen alkalmazása 2007-tő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782/2003/EK rendelet 88. cik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793/2004. EK rendelet közvetlen alkalmaz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iegészítő támogatás nagysága: 45 €/ha (2 millió h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ámogatás kedvezményezettje: mezőgazdasági termel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1640" y="4038480"/>
            <a:ext cx="776268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ultúra függvényében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SAPS, GOFR top-up jogosult + 45 €/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ámogatás feltételei: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támogatható terület (SAPS jogosu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elismert piaci szereplővel (felvásárlóval, va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sődleges feldolgozóval) kötött szerződé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reprezentatív hozamok eléré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szállítási, betakarítási bizonyl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2600" y="6127920"/>
            <a:ext cx="5577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gszabály: 63/2008. (V.6.) FVM rende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96280" y="152280"/>
            <a:ext cx="863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omassza kazánok beszerzésének támogatása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79760" y="708120"/>
            <a:ext cx="448596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78/2007. (VII.30.) FVM rende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23/2007. (IV.26.) FVM rendelet (EMVA Vhr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2007. évi XVII. tv. (MVH tv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14040" y="1676520"/>
            <a:ext cx="917244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Támogatható tevékenység: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mg. célú energiafelhasználást szolgáló biomassza kazán beszerzé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apcsolódó szerelvények (kémény, puffer tartály stb.) szekunder oldal, installálási költség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(értésítési célú szárított takarmány más jogcím – State aid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Benyújtás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2009-től (2008-ban más jogcímek fedik le, kertészet, szárító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Célcsoport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mg. termelők (min. 4 EUME), termelői csoporto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Támogatás mértéke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VNT, 35%, kérelmenként max. 30 millió Ft (85 m.Ft-os fejleszté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Kifizetés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utófinanszírozás, kifizetett számlák alapján, kifizetési kérelem benyújtásával, beruház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befejezésére vonatkozó gépészmérnök által kiállított igazoláss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Jogcím specifikus feltétele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gépészmérnök által jóváhagyott technológiai ter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nyilatkozat a felhasználni tervezett biomassza forrásáról, formájáró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(kötelező képzé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96280" y="152280"/>
            <a:ext cx="86374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omassza kazánok beszerzésének támogatása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lytat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7920" y="1363680"/>
            <a:ext cx="8518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Jogcím specifikus kötelezettsége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fejlesztés megvalósítása, üzemben tartás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állagmegóvá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előállított energia mezőgazdasági célú felhasználása (max. 25% egyé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vállalt kötelezettségek (létszám, naturális adat) szinten tartás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induló vállalkozásnak a 4 EUME eléré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(képzésen történő részvéte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ntozás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fejlesztés szükségessé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kertészetre, állattenyésztésre gyakorolt hatás (számítot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korszerűség (automatizáltság, szabvány, hatásfo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foglalkoztatási hatá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megvalósítás helye (hátrányos helyzetű térsé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nők, csökkent munkaképességű foglalkoztatása, roma felzárkóztatá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költség-haszon elemzé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480" y="0"/>
            <a:ext cx="805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gújuló energiaforrások kulcsterület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zempontjai - Magyarorszá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0600" y="1298520"/>
            <a:ext cx="811764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. Energiapolit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nergiaellátás diverzifikációja, olaj- és gázfüggőség mérséklé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. Környezet és természetvéde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kibocsátás csökkentése, energetikai szennyvíz és szerves hulladék hasznosítá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. Mezőgazdaság, vidékfejlesz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ermelési- és piaci struktúraváltás, vidékfejleszté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. EU elvárások teljesí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zankciók megelőzése, új EU célkitűzések, 2001/77/EK, 2003/30/EK irányelve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. Nemzetgazdasági megfontolások, komplex gazdaságfejlesz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DP, fizetési mérleg, költségvetési hatások, foglalkoztatás, új versenyképes iparág, K+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96280" y="152280"/>
            <a:ext cx="863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omassza kazánok beszerzésének támogatása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5240" y="1152360"/>
            <a:ext cx="426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/2007. (III.27.) FVM rende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160" y="1822320"/>
            <a:ext cx="59216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ényszárítókhoz kapcsolt biomassza kaz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yújtási határidő: május 30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93600" y="3352680"/>
            <a:ext cx="4112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/2007. (III.7.) FVM rende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3720" y="4038480"/>
            <a:ext cx="498888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tészethez kapcsolt biomassza kaz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yújtási határidő: május 30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752840" y="520560"/>
            <a:ext cx="5443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öszönöm a megtisztelő figyelme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23130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9400" y="228600"/>
            <a:ext cx="89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zőgazdaság szerepe a megújulók területé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8600" y="2666880"/>
            <a:ext cx="830628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iverzifikálható a piaci szerkeze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ív, termőhelyi adottságokhoz jobban igazodó racionális földhasznála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lléktermékek értékesíté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rszerű, produktív tárgya kezelés (biogá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dolgozottabb, magasabb jövedelmet biztosító termékek előállítás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iaköltségek csökkentése (pl. szárítá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160" y="5826240"/>
            <a:ext cx="8413200" cy="828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elők jövedelemszerzési lehetőségeinek megőrzése, javí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új munkahelyek, vidékfejlesz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24440" y="4875120"/>
            <a:ext cx="990360" cy="868320"/>
          </a:xfrm>
          <a:prstGeom prst="downArrow">
            <a:avLst>
              <a:gd name="adj1" fmla="val 44870"/>
              <a:gd name="adj2" fmla="val 494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2120" y="1066680"/>
            <a:ext cx="893304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nntartható módon biztosítani a szükséges biomassza mennyisé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yben felhasználással hozzájárulni az országos célokh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92160" y="0"/>
            <a:ext cx="370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omassza tüzelés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10560" y="3505320"/>
            <a:ext cx="611676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sszilis energiahordozók árának emelked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árható kötelezettségek a megújuló energiaforrások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08400" y="441648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7360" y="5224320"/>
            <a:ext cx="8241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gnövekvő szilárd biomassza kereslet minden szegmensb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71920" y="5735520"/>
            <a:ext cx="759348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40 kW alatti kiskazánok (lakosság, KK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40 kW – 1,5 MW közepes berendezések (önkormányzatok, KKV, mg. üzeme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1,5 MW feletti fűtőművek, kis kogenerációs erőművek (önkormányzatok, nagyobb gyára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20 MW feletti erőműv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7320" y="684360"/>
            <a:ext cx="769104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Alapanyago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rdőgazdasági termék (tüzifa, vágástéri nyesedék, tuskó, ág stb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aipari hulladék (pl. forgá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Öregfa, használt fa begyűjtéséből származó hulladék 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Mezőgazdasági melléktermék (szár, szalma, csutka stb.), hulladék (nyesedék stb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Élelmiszeripari hulladék (pl. olajosmag-hé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ás szárú energiaültetvé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zántóföldi energianövény termesztésből (pl. Miscanthus, kender, energiafű stb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2600" y="3232080"/>
            <a:ext cx="819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90600" y="636480"/>
            <a:ext cx="8289360" cy="4697640"/>
            <a:chOff x="390600" y="636480"/>
            <a:chExt cx="8289360" cy="4697640"/>
          </a:xfrm>
        </p:grpSpPr>
        <p:grpSp>
          <p:nvGrpSpPr>
            <p:cNvPr id="60" name=""/>
            <p:cNvGrpSpPr/>
            <p:nvPr/>
          </p:nvGrpSpPr>
          <p:grpSpPr>
            <a:xfrm>
              <a:off x="396720" y="639720"/>
              <a:ext cx="8276040" cy="4690800"/>
              <a:chOff x="396720" y="639720"/>
              <a:chExt cx="8276040" cy="469080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396720" y="639720"/>
                <a:ext cx="2758320" cy="1133280"/>
                <a:chOff x="396720" y="639720"/>
                <a:chExt cx="2758320" cy="113328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56480" y="639720"/>
                  <a:ext cx="2638440" cy="113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gnevezés (átlagos fűtőérték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96720" y="639720"/>
                  <a:ext cx="2758320" cy="113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3155400" y="639720"/>
                <a:ext cx="2758320" cy="1133280"/>
                <a:chOff x="3155400" y="639720"/>
                <a:chExt cx="2758320" cy="113328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3215520" y="639720"/>
                  <a:ext cx="2638080" cy="113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Átlagos egységár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155400" y="639720"/>
                  <a:ext cx="2758320" cy="113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5914440" y="639720"/>
                <a:ext cx="2758320" cy="1133280"/>
                <a:chOff x="5914440" y="639720"/>
                <a:chExt cx="2758320" cy="11332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5974560" y="639720"/>
                  <a:ext cx="2638080" cy="113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ajlagos ár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*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5914440" y="639720"/>
                  <a:ext cx="2758320" cy="113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396720" y="1773000"/>
                <a:ext cx="2758320" cy="452880"/>
                <a:chOff x="396720" y="1773000"/>
                <a:chExt cx="2758320" cy="4528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456480" y="1773000"/>
                  <a:ext cx="26384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öldgáz (34 MJ/m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96720" y="1773000"/>
                  <a:ext cx="2758320" cy="45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3155400" y="1773000"/>
                <a:ext cx="2758320" cy="452880"/>
                <a:chOff x="3155400" y="1773000"/>
                <a:chExt cx="2758320" cy="452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215520" y="1773000"/>
                  <a:ext cx="263808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 Ft/m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155400" y="1773000"/>
                  <a:ext cx="2758320" cy="45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914440" y="1773000"/>
                <a:ext cx="2758320" cy="452880"/>
                <a:chOff x="5914440" y="1773000"/>
                <a:chExt cx="2758320" cy="452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974560" y="1773000"/>
                  <a:ext cx="263808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95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914440" y="1773000"/>
                  <a:ext cx="2758320" cy="45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396720" y="2226240"/>
                <a:ext cx="2758320" cy="581760"/>
                <a:chOff x="396720" y="2226240"/>
                <a:chExt cx="2758320" cy="58176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56480" y="2226240"/>
                  <a:ext cx="2638440" cy="58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eményfa brikett bigbag (14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96720" y="2226240"/>
                  <a:ext cx="2758320" cy="58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3155400" y="2226240"/>
                <a:ext cx="2758320" cy="581760"/>
                <a:chOff x="3155400" y="2226240"/>
                <a:chExt cx="2758320" cy="5817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3215520" y="2226240"/>
                  <a:ext cx="2638080" cy="58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155400" y="2226240"/>
                  <a:ext cx="2758320" cy="58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5914440" y="2226240"/>
                <a:ext cx="2758320" cy="581760"/>
                <a:chOff x="5914440" y="2226240"/>
                <a:chExt cx="2758320" cy="5817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974560" y="2226240"/>
                  <a:ext cx="2638080" cy="58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914440" y="2226240"/>
                  <a:ext cx="2758320" cy="58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396720" y="2808000"/>
                <a:ext cx="2758320" cy="452520"/>
                <a:chOff x="396720" y="2808000"/>
                <a:chExt cx="2758320" cy="4525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456480" y="2808000"/>
                  <a:ext cx="263844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ásárolt faapríték (14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96720" y="28080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155400" y="2808000"/>
                <a:ext cx="2758320" cy="452520"/>
                <a:chOff x="3155400" y="2808000"/>
                <a:chExt cx="2758320" cy="4525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215520" y="280800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155400" y="28080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5914440" y="2808000"/>
                <a:ext cx="2758320" cy="452520"/>
                <a:chOff x="5914440" y="2808000"/>
                <a:chExt cx="2758320" cy="4525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974560" y="280800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914440" y="28080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96720" y="3260880"/>
                <a:ext cx="2758320" cy="452520"/>
                <a:chOff x="396720" y="3260880"/>
                <a:chExt cx="2758320" cy="4525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56480" y="3260880"/>
                  <a:ext cx="263844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ermelt faapríték (14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96720" y="32608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3155400" y="3260880"/>
                <a:ext cx="2758320" cy="452520"/>
                <a:chOff x="3155400" y="3260880"/>
                <a:chExt cx="2758320" cy="4525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215520" y="326088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7,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155400" y="32608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5914440" y="3260880"/>
                <a:ext cx="2758320" cy="452520"/>
                <a:chOff x="5914440" y="3260880"/>
                <a:chExt cx="2758320" cy="4525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974560" y="326088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5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914440" y="32608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396720" y="3713400"/>
                <a:ext cx="2758320" cy="452520"/>
                <a:chOff x="396720" y="3713400"/>
                <a:chExt cx="2758320" cy="4525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56480" y="3713400"/>
                  <a:ext cx="263844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yesedék (12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96720" y="37134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155400" y="3713400"/>
                <a:ext cx="2758320" cy="452520"/>
                <a:chOff x="3155400" y="3713400"/>
                <a:chExt cx="2758320" cy="4525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215520" y="371340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155400" y="37134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914440" y="3713400"/>
                <a:ext cx="2758320" cy="452520"/>
                <a:chOff x="5914440" y="3713400"/>
                <a:chExt cx="2758320" cy="4525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974560" y="371340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914440" y="37134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396720" y="4166280"/>
                <a:ext cx="2758320" cy="452520"/>
                <a:chOff x="396720" y="4166280"/>
                <a:chExt cx="2758320" cy="4525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56480" y="4166280"/>
                  <a:ext cx="263844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zalma (12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96720" y="41662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3155400" y="4166280"/>
                <a:ext cx="2758320" cy="452520"/>
                <a:chOff x="3155400" y="4166280"/>
                <a:chExt cx="2758320" cy="4525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3215520" y="416628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155400" y="41662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5914440" y="4166280"/>
                <a:ext cx="2758320" cy="452520"/>
                <a:chOff x="5914440" y="4166280"/>
                <a:chExt cx="2758320" cy="4525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5974560" y="416628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14440" y="41662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396720" y="4619160"/>
                <a:ext cx="2758320" cy="711360"/>
                <a:chOff x="396720" y="4619160"/>
                <a:chExt cx="2758320" cy="711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56480" y="4619160"/>
                  <a:ext cx="263844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tőmagszárításkor képződő kukoricacsutka (14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96720" y="4619160"/>
                  <a:ext cx="275832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155400" y="4619160"/>
                <a:ext cx="2758320" cy="711360"/>
                <a:chOff x="3155400" y="4619160"/>
                <a:chExt cx="2758320" cy="7113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215520" y="4619160"/>
                  <a:ext cx="263808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155400" y="4619160"/>
                  <a:ext cx="275832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5914440" y="4619160"/>
                <a:ext cx="2758320" cy="711360"/>
                <a:chOff x="5914440" y="4619160"/>
                <a:chExt cx="2758320" cy="7113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974560" y="4619160"/>
                  <a:ext cx="263808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1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914440" y="4619160"/>
                  <a:ext cx="275832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390600" y="636480"/>
              <a:ext cx="8289360" cy="4697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742760" y="0"/>
            <a:ext cx="5988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ergiaforrások összehasonl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3320" y="5583240"/>
            <a:ext cx="90230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az átlagos előállítási, beszerzési árak tájékoztatóak a helyi adottságok függvényében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jelentősen szóródha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* energiahordozó árára vetítve, hatásfokkal nem korrigált (10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27672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5880" y="6248520"/>
            <a:ext cx="90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arbantartási igénnyel, tárolás, hatásfokkal stb. korrigálv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50-70%-os megtakarítás!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47800" y="198360"/>
            <a:ext cx="370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omassza tüzelés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85560" y="1098720"/>
            <a:ext cx="4592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t jelenthet a termelőkne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88920" y="1871640"/>
            <a:ext cx="6953400" cy="22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ját felhaszná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övekvő kereslet = pi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lléktermékek, hulladék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élirányos energetikai növénytermesz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lternatív, a termőhelyhez igazodó kultúrák termeszté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377720" y="4172040"/>
            <a:ext cx="1377720" cy="80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2560" y="4237200"/>
            <a:ext cx="1349280" cy="80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8640" y="5151600"/>
            <a:ext cx="44449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ágy szárú energianövény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iafű (szikes talajok, szárazságtű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anthus (magas vízkapacitású talaj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nder-, cirok-, fűfélék stb., stb., st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7040" y="5153040"/>
            <a:ext cx="29437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ás szárú energianövény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ix (belvizes területe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ácfa (gyenge talaj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árfa, éger, mályva st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017080" y="193680"/>
            <a:ext cx="539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ergetikai növénytermesz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3880" y="762120"/>
            <a:ext cx="4174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anyigazság” – alapelv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640" y="1371600"/>
            <a:ext cx="8152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1. Nem a kultúrához kell területet, hanem az ad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erülethez (piachoz) kell megválasztani az optimális kultúrá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2. A biomassza mixet a helyi adottságok figyelemb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vételével kell összeállítan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9400" y="3581280"/>
            <a:ext cx="8699760" cy="31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gnosztizált országos szükséglet, igén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3.992 GWh/év + 50 PJ/év (24 PJ/év lakossági, 26 PJ/év közösségi fűtőműve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lapanyagának biztosítása = kb.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7,8 – 8 millió tonna/é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 jelenlegi erdőállomány és az új telepítések 2010, 2013, 2015 stb. -re nem képes biztosít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zt a mennyiséget, helyenként jelenleg is feszültéségek tapasztalhatóa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öbb forrásból: erdészeti termékek, apadék, lágy szárú (szántóföldi) energianövénye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ás szárú energiaültetvények,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melléktermékek és hulladéko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76800" y="0"/>
            <a:ext cx="8004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ás szárú energiaültetvények szabályozása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120" y="1219320"/>
            <a:ext cx="71679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elepítése engedélyhez kötött tevékenység (miért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lenőrizhetőség (erdőtől történő lehatárolá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aporítóanyag nyomon követése (növény eü. előíráso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jogviták, visszaélések elkerülé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lenőrzött, hézagmentes nyilvántartás (ld. energy crops premi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akmai szempontok érvényesíté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rmészetvédelmi oltalom alatt álló területek védel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nvazív fajok elterjedésének megakadályozás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alajvédelem, termőképesség visszaállításának ellenőrzé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5560" y="4816440"/>
            <a:ext cx="814680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Korm. R. felépítése: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lehatárolások, definíciók (hengeres, sarjaztatás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kérelem benyújtásának feltéte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eljárás mente (telepítés – felszámolá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hatósági ellenőrzés köre, szankció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záró és átmeneti rendelkezé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hatálybalépés, korábban telepített ültetvénye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2280" y="762120"/>
            <a:ext cx="6838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71/2007. (IV.14.) Korm.r., 45/2007. (VI.11.) FVM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24520" y="152280"/>
            <a:ext cx="80049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ás szárú energiaültetvények szabályozása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, hol, milyen szaporítóanyagbó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981080"/>
            <a:ext cx="916308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Kicsoda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földhasználó (tulajdonos, bérlő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Hol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saját vagy bérelt földterületen (HRSZ, blokkazonosító, bérleti szerződés, tulajdo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s hozzájáruló nyilatkozata). Természetvédelmi oltalom alatt álló területeken a Te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atóság szakhatóságként jár el. Termőhelyi megfelelőssé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atura 2000 és természeti oldatom alatt álló területen akác nem telepíthető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Milyen szaporítóanyagból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ellenőrzött forrásból (engedélyes csemetekert, impor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állítói származási bizonylat, EK növényútlevél, GMO mentes csemete), amelyik meg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velel a Vhr. 2.§-ban foglaltakna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4:59:20Z</dcterms:created>
  <dc:creator>tisztv</dc:creator>
  <dc:description/>
  <dc:language>en-US</dc:language>
  <cp:lastModifiedBy>RJ</cp:lastModifiedBy>
  <dcterms:modified xsi:type="dcterms:W3CDTF">2008-12-02T14:35:05Z</dcterms:modified>
  <cp:revision>106</cp:revision>
  <dc:subject/>
  <dc:title>PowerPoint bemutató</dc:title>
</cp:coreProperties>
</file>