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56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76BD-FC7C-4A6D-8F82-5015D27A0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FA10-474C-4C1A-BAD2-EFE71A829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9400" cy="3689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FEF7-201E-45E6-8F20-4E98E4654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9400" cy="3689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55EB8-B50A-4734-8D52-AF2A0D8D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0E28A-F77F-4460-ADB4-212B2BF9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E9859-2B1E-44D3-9D4C-39106AB3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71410-184D-4CED-A149-F0526821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A8DB0-5E00-4AFB-A7C2-8408F6EE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6DE4E-9602-4114-883C-E2326BC4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91601-48B6-49CC-B0F8-DB197454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2A257-A4EB-40E1-BF01-833D94EB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E91BE-B304-4F6F-BDEA-24EA6916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D1CCC-EDF7-4D41-BACC-E48C92E5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04870-5BFB-4A2C-ACF4-99BE0188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A0199-9CB5-4A6A-82F9-39E47E59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520" y="6248520"/>
            <a:ext cx="843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u-HU" sz="10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Moha, 2008. október . 15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fld id="{6C6D53FC-EF54-4B6F-B9E8-1A5649A49463}" type="slidenum">
              <a:rPr b="0" i="1" lang="hu-HU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 /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114000" y="33228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Raiffeisen Energiaszolgáltató Kft. </a:t>
            </a:r>
            <a:r>
              <a:rPr b="1" lang="hu-HU" sz="2200" spc="-1" strike="noStrike">
                <a:solidFill>
                  <a:srgbClr val="ffff00"/>
                </a:solidFill>
                <a:latin typeface="Futura CE Book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956720" y="260280"/>
            <a:ext cx="939600" cy="79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96FC-E2E9-4305-8074-53FA9835F0C3}" type="slidenum">
              <a:rPr b="0" lang="hu-H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05160" y="289440"/>
            <a:ext cx="456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Futura CE Book"/>
              </a:rPr>
              <a:t>Raiffeisen Energiaszolgáltató Kft.</a:t>
            </a:r>
            <a:r>
              <a:rPr b="1" lang="hu-HU" sz="2200" spc="-1" strike="noStrike">
                <a:solidFill>
                  <a:srgbClr val="ffffff"/>
                </a:solidFill>
                <a:latin typeface="Futura CE Book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84840" y="38480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5950080"/>
            <a:ext cx="87854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Futura CE Medium"/>
              </a:rPr>
              <a:t>Természetes megoldások európai színvonal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2349360"/>
            <a:ext cx="431964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00"/>
                </a:solidFill>
                <a:latin typeface="Futura CE Book"/>
              </a:rPr>
              <a:t>Energiaültetvények egy lehetséges finanszírozási mód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00"/>
                </a:solidFill>
                <a:latin typeface="Futura CE Book"/>
              </a:rPr>
              <a:t>Simon Andr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34909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ÉRDEMES TUDNI RÓLU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39337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4005360"/>
            <a:ext cx="115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13372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Raiffeisen Lízing Zrt. 100%-os leányvállal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pénzügyi befektet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nem klasszikus banki finanszíroz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többségi tulajdonosi szerepünknek köszönhetően a beruházási érték akár 100%-a is finanszírozhat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több éves energiatermelési tapasztal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TEVÉKENYSÉGÜ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2289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Szélerőmű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Fás szárú energiaültetvények &amp; pelletáló üzem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Biogáz erőmű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Víziközmű szolgálta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Fatüzelésű erőmű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867280" y="1773360"/>
            <a:ext cx="2934000" cy="1311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4427640" y="1773360"/>
            <a:ext cx="1436760" cy="1439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4427640" y="3213000"/>
            <a:ext cx="1441440" cy="1511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5867280" y="4724280"/>
            <a:ext cx="2952720" cy="1300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4427640" y="4724280"/>
            <a:ext cx="1446120" cy="129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5867280" y="3357720"/>
            <a:ext cx="2954520" cy="1366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1822320"/>
            <a:ext cx="8352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Futura CE Book"/>
              </a:rPr>
              <a:t>I. átgondolt, megalapozott üzleti tervvel rendelkezik (az ötlet nem elé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kipróbált szaporítóanyag megfelelő mennyiségben, kiszámítható áron biztosíthat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a szükséges, kipróbált művelési technológia időben megrendelésre kerü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értékesítésre hosszú távú szerződések köthetők regisztrált kereskedővel vagy végfelhasználó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logisztikailag hatékony (ültetvény és vevő távolság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árfolyamkockázatot nem, vagy csak kismértékben váll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alternatív értékesítési lehetőséggel rendelkezi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Futura CE Book"/>
              </a:rPr>
              <a:t>II. beruházási költségvetése min. 200 millió 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Futura CE Book"/>
              </a:rPr>
              <a:t>III. A leendő telepítő nagy mezőgazdasági gyakorlattal és hosszú távú   földhasználati joggal rendelkezik, valamint pályázhat energiaültetvény telepítési támogatás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Futura CE Book"/>
              </a:rPr>
              <a:t>SZERINTÜNK EGY JÓ ÜLTETVÉNY PROJEK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39337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4005360"/>
            <a:ext cx="115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H="1">
            <a:off x="4067280" y="4221000"/>
            <a:ext cx="79200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564000" y="4292640"/>
            <a:ext cx="720720" cy="86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Futura CE Book"/>
              </a:rPr>
              <a:t>PROJEKTJEINK ÁLTALÁNOS STRUKTÚRÁ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8325200">
            <a:off x="4023360" y="465192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üzemeltetés / dí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716280"/>
            <a:ext cx="136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2560" y="3735360"/>
            <a:ext cx="124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01720" y="3789360"/>
            <a:ext cx="221220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Futura CE Book"/>
              </a:rPr>
              <a:t>Projekttársasá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57800" y="5300640"/>
            <a:ext cx="221364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Futura CE Book"/>
              </a:rPr>
              <a:t>Az „ötlet gazd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040" y="2997360"/>
            <a:ext cx="252000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Futura CE Book"/>
              </a:rPr>
              <a:t>Raiffeisen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3760" y="1773360"/>
            <a:ext cx="267840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Futura CE Book"/>
              </a:rPr>
              <a:t>Raiffeisen Bank Z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23560" y="2924280"/>
            <a:ext cx="95796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Futura CE Book"/>
              </a:rPr>
              <a:t>Vevő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4941720"/>
            <a:ext cx="132876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Futura CE Book"/>
              </a:rPr>
              <a:t>Szállító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342900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4880" y="4416840"/>
            <a:ext cx="238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szindikátusi megállapodá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868800">
            <a:off x="2921040" y="4503960"/>
            <a:ext cx="13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osztalé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00280" y="3573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osztalé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132000" y="3499920"/>
            <a:ext cx="1152720" cy="5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131640" y="3068280"/>
            <a:ext cx="1295640" cy="647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470600">
            <a:off x="2847600" y="299736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pénzügyi működtetés / dí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427280" y="1989000"/>
            <a:ext cx="1657080" cy="165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2801400">
            <a:off x="4269960" y="2837160"/>
            <a:ext cx="16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kölcsönszerződé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LÉPÉSEK A FINANSZÍROZÁSI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Együttműködési megállapodás lehető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6600"/>
                </a:solidFill>
                <a:latin typeface="Arial"/>
              </a:rPr>
              <a:t>Pozitív finanszírozási dön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Futura CE Book"/>
              </a:rPr>
              <a:t>További lépés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1. Szükséges telepítési engedély beszer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2. Finanszírozáshoz szükséges szerződések megkötése (társasági / üzletrész vásárlási, szindikátusi, hitel-, szolgáltatási, üzemeltetési stb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3. Szaporítóanyag-, technológia szállítói, földbérleti és értékesítési szerződések megkö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4. Finanszírozás megkezd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ELÉRHETŐSÉGE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1359000"/>
            <a:ext cx="700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916280"/>
            <a:ext cx="8569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00"/>
                </a:solidFill>
                <a:latin typeface="Futura CE Book"/>
              </a:rPr>
              <a:t>Simon András projekt koordiná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Tel.: (06-1) 298-816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Fax: (06-1) 298-8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Mobil: (06-20) 429-573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E-mail: 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energy@raiffeisen.hu 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00"/>
                </a:solidFill>
                <a:latin typeface="Futura CE Book"/>
              </a:rPr>
              <a:t>andras.simon@raiffeisen.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www.raiffeisenenergy.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VISZONTLÁTÁSRA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1359000"/>
            <a:ext cx="700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2276640"/>
            <a:ext cx="8569080" cy="24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3200" spc="-1" strike="noStrike">
                <a:solidFill>
                  <a:srgbClr val="ffff00"/>
                </a:solidFill>
                <a:latin typeface="Futura CE Book"/>
              </a:rPr>
              <a:t>KÖSZÖNÖM A FIGYELMÜKE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76720" y="4005360"/>
            <a:ext cx="2795400" cy="91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3:29:20Z</dcterms:created>
  <dc:creator>RBH</dc:creator>
  <dc:description/>
  <dc:language>en-US</dc:language>
  <cp:lastModifiedBy>RJ</cp:lastModifiedBy>
  <cp:lastPrinted>2005-07-14T10:48:55Z</cp:lastPrinted>
  <dcterms:modified xsi:type="dcterms:W3CDTF">2008-12-02T14:34:21Z</dcterms:modified>
  <cp:revision>483</cp:revision>
  <dc:subject/>
  <dc:title>No Slide Title</dc:title>
</cp:coreProperties>
</file>